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3D0-0B33-4DAC-93FA-F9E94B29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EDB-BFED-4C5A-9D2B-A1726A8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357-D8FA-4FDC-8AD0-E3D22F0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370-1DDB-48B8-AA8D-3BB15172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982-8D7D-4713-BB75-88A925A4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828-1AB3-4EC4-BA2E-624E4162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4AF-CFF7-48D5-B64E-1B0DAA44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267-2752-4CB2-9800-6E940A3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8CC-BB86-4A71-8987-BC9897F0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2CF-7C00-4243-BD98-FDB3CE0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E29-E106-480F-94B8-CD9C467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CC9-D3AA-429F-8F8A-D90F897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8D90-9C84-46BC-8374-EF0E12025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you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ive steps of the scientific method, in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onus: what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to Sci. Me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hree key components to all successful experi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18:21Z</dcterms:created>
  <dc:creator>Sussex County Public Schools</dc:creator>
  <dc:description/>
  <dc:language>en-US</dc:language>
  <cp:lastModifiedBy>Sussex County Public Schools</cp:lastModifiedBy>
  <dcterms:modified xsi:type="dcterms:W3CDTF">2005-09-12T19:18:39Z</dcterms:modified>
  <cp:revision>1</cp:revision>
  <dc:subject/>
  <dc:title>Scientific Method</dc:title>
</cp:coreProperties>
</file>